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215-7B43-478D-9837-FF5BE07A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4B4-D414-4C87-8EC0-09DDC37A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2E9-C0AB-41A7-A7A6-1E058FEC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9CF-03E7-4B78-9AE8-F4C64564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D5F-D278-4C5E-9B64-C1E768C1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BD5-A843-424C-8D32-47F1A20E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0AF-DD25-49A1-85BA-02BE0F37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14D-8196-44F8-B67B-BEA3BE04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D73-239E-41B4-B5E2-10B785C7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E3D-0335-4B4B-926A-BBE2C7D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FCC-EFAD-41DF-8D29-BE20B874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3AC-DC04-4D1D-A895-6A43E4E7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114C-EADA-464C-983C-C1B55149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พื้นที่ผิว และปริมาต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ครูผู้สอน ส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ต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ไพบูลย์ ศรีบุญมี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ลุ่มสาระการเรียนรู้คณิตศาสตร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รื่อง พื้นที่ผิวและปริมาตรรูปทรงเรขาคณ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ชั้นมัธยมศึกษาปีที่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โรงเรียนบ้านดอนขี้เหล็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สำนักงานเขตพื้นที่การศึกษาอุดรธานี เขต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11280" y="1341360"/>
            <a:ext cx="934920" cy="287280"/>
          </a:xfrm>
          <a:prstGeom prst="parallelogram">
            <a:avLst>
              <a:gd name="adj" fmla="val 8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8936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พีระมิด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260280"/>
            <a:ext cx="720720" cy="108108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771640" y="2060640"/>
            <a:ext cx="720720" cy="93672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3601080" y="1232640"/>
            <a:ext cx="719280" cy="93672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1908000" y="1196640"/>
            <a:ext cx="720720" cy="100980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620640"/>
            <a:ext cx="720720" cy="100980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62064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1341360"/>
            <a:ext cx="72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3789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ฐาน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378936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้างพีระม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4581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พีระมิด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ื้นที่ฐานพีระมิด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ความยาวรอบฐาน 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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 สูงเอียง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80360" y="51577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5516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ปริมาตรขอ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537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56000" y="5661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551664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ื้นที่ฐา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16200000">
            <a:off x="827640" y="474840"/>
            <a:ext cx="1655640" cy="1657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719640" y="1159920"/>
            <a:ext cx="1008000" cy="35856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436392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กลว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436392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2560" y="436392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6560" y="4363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72360" y="4363920"/>
            <a:ext cx="1008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3640" y="54435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กลว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544356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รือ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91280" y="5443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54435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84720" y="5445000"/>
            <a:ext cx="1079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)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24360" y="838080"/>
            <a:ext cx="3600360" cy="1222560"/>
          </a:xfrm>
          <a:prstGeom prst="can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61080" y="981000"/>
            <a:ext cx="1655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724000" y="112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9080" y="765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84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724000" y="2278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00720" y="19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89800" y="22780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24360" y="20620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24720" y="2062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24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24360" y="105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6400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708360" y="105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8360" y="1630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5280" y="357336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ข้า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จำนวนหน้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ฐา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เอียง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4653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รือ  สูตร พื้นที่ผิวข้างพีระมิ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ยาวรอบฐา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134136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260280"/>
            <a:ext cx="720720" cy="108108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771640" y="2060640"/>
            <a:ext cx="720720" cy="93672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601080" y="1232640"/>
            <a:ext cx="719280" cy="93672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1908000" y="1196640"/>
            <a:ext cx="720720" cy="100980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549360"/>
            <a:ext cx="720720" cy="1081080"/>
          </a:xfrm>
          <a:prstGeom prst="triangle">
            <a:avLst>
              <a:gd name="adj" fmla="val 50000"/>
            </a:avLst>
          </a:prstGeom>
          <a:solidFill>
            <a:srgbClr val="b7e7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6924000">
            <a:off x="7272720" y="1664280"/>
            <a:ext cx="718920" cy="936720"/>
          </a:xfrm>
          <a:prstGeom prst="triangle">
            <a:avLst>
              <a:gd name="adj" fmla="val 50000"/>
            </a:avLst>
          </a:prstGeom>
          <a:solidFill>
            <a:srgbClr val="b7e7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763560"/>
            <a:ext cx="720720" cy="1009800"/>
          </a:xfrm>
          <a:prstGeom prst="triangle">
            <a:avLst>
              <a:gd name="adj" fmla="val 50000"/>
            </a:avLst>
          </a:prstGeom>
          <a:solidFill>
            <a:srgbClr val="b7e7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620640"/>
            <a:ext cx="720720" cy="1009800"/>
          </a:xfrm>
          <a:prstGeom prst="triangle">
            <a:avLst>
              <a:gd name="adj" fmla="val 50000"/>
            </a:avLst>
          </a:pr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403280" y="1341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620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134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99640" y="692280"/>
            <a:ext cx="142920" cy="64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84000" y="1341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5363640" y="1557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003280" y="1557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364000" y="76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4267400">
            <a:off x="6047280" y="1664280"/>
            <a:ext cx="720720" cy="1081080"/>
          </a:xfrm>
          <a:prstGeom prst="triangle">
            <a:avLst>
              <a:gd name="adj" fmla="val 50000"/>
            </a:avLst>
          </a:prstGeom>
          <a:solidFill>
            <a:srgbClr val="b7e7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32000" y="5805360"/>
            <a:ext cx="70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ข้างพีระมิด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ความยาวรอบฐาน 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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 สูงเอีย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88000" y="602136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580536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ร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635280" y="3141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ปริมาตรกรวย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99280" y="33577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99280" y="30700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0800000">
            <a:off x="611280" y="2709720"/>
            <a:ext cx="1512720" cy="1727280"/>
          </a:xfrm>
          <a:prstGeom prst="triangle">
            <a:avLst>
              <a:gd name="adj" fmla="val 4857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 rot="10800000">
            <a:off x="610920" y="2419920"/>
            <a:ext cx="1522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4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68360" y="32846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47640" y="242100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40328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63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1280" y="3716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411280" y="27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15280" y="314172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4" dur="2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7" dur="25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0" dur="25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5" dur="25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8" dur="25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1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419640" y="1557360"/>
            <a:ext cx="33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 พื้นที่ผิวทรงกล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6602400">
            <a:off x="817560" y="1879560"/>
            <a:ext cx="1942920" cy="201600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20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32720" y="155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19640" y="278136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 ปริมาตรทรงกล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59640" y="2781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59640" y="306864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75640" y="27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71640" y="1628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พื้นที่ของรูปสามเหลี่ย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162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8800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7715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48360" y="162864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ฐาน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314172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พื้นที่ของรูปสามเหลี่ยมด้านเท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32720" y="3141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306864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292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020000" y="2925720"/>
                <a:ext cx="4078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692360" y="45813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พื้นที่ของรูปสามเหลี่ย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45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869080" y="4508640"/>
                <a:ext cx="2950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859280" y="522936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มื่อ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515772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a + b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4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81000"/>
            <a:ext cx="792000" cy="10429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1052640"/>
            <a:ext cx="863640" cy="93636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2781360"/>
            <a:ext cx="935280" cy="863640"/>
          </a:xfrm>
          <a:prstGeom prst="triangle">
            <a:avLst>
              <a:gd name="adj" fmla="val 50000"/>
            </a:avLst>
          </a:prstGeom>
          <a:solidFill>
            <a:srgbClr val="c4c4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5661000"/>
            <a:ext cx="1440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58920" y="558756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558792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5229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6021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5589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60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พื้นที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3333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พื้นที่ของรูปสี่เหลี่ยมจัตุรั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33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33336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พื้นที่ของรูปสี่เหลี่ยมผืนผ้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119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119700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ว้าง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ยา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6560" y="206064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พื้นที่ของรูปสี่เหลี่ยมคางหม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4560" y="20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206064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ผลบวกของด้านคู่ขน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4920" y="19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227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12000" y="206064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357336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พื้นที่ของรูปสี่เหลี่ยมด้านขน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5440" y="3573360"/>
            <a:ext cx="71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1800" y="3573360"/>
            <a:ext cx="8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พื้นที่สี่เหลี่ยมใด 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4724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056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4724280"/>
            <a:ext cx="5111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×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ความยาวเส้นทแยงมุ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ผลบวกของความยาวของเส้นกิ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2200" y="4653000"/>
            <a:ext cx="7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189000"/>
            <a:ext cx="649440" cy="576000"/>
          </a:xfrm>
          <a:prstGeom prst="rect">
            <a:avLst/>
          </a:prstGeom>
          <a:solidFill>
            <a:srgbClr val="b7e7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1052640"/>
            <a:ext cx="1366920" cy="647640"/>
          </a:xfrm>
          <a:prstGeom prst="rect">
            <a:avLst/>
          </a:prstGeom>
          <a:solidFill>
            <a:srgbClr val="f4aaf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6360" y="2637000"/>
            <a:ext cx="1511280" cy="649080"/>
          </a:xfrm>
          <a:custGeom>
            <a:avLst/>
            <a:gdLst>
              <a:gd name="textAreaLeft" fmla="*/ 332280 w 1511280"/>
              <a:gd name="textAreaRight" fmla="*/ 1179000 w 1511280"/>
              <a:gd name="textAreaTop" fmla="*/ 142560 h 649080"/>
              <a:gd name="textAreaBottom" fmla="*/ 5065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ff1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3429000"/>
            <a:ext cx="1152360" cy="647640"/>
          </a:xfrm>
          <a:prstGeom prst="parallelogram">
            <a:avLst>
              <a:gd name="adj" fmla="val 44483"/>
            </a:avLst>
          </a:prstGeom>
          <a:solidFill>
            <a:srgbClr val="edbe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558972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564000" y="5516280"/>
            <a:ext cx="2087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95640" y="6381360"/>
            <a:ext cx="136836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63640" y="5516640"/>
            <a:ext cx="287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89720"/>
            <a:ext cx="180000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48360" y="5589360"/>
            <a:ext cx="431640" cy="71892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995640" y="5949720"/>
            <a:ext cx="432000" cy="64764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2560" y="570528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   พื้นที่ผิวปริซึม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7052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พื้นที่ฐานทั้งส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1280" y="570528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 </a:t>
            </a: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พื้นที่ผิวข้างปริซึ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25584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    พื้นที่ผิวข้างปริซึม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8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    พื้นที่ฐานปริซึมสี่เหลี่ยมผืนผ้า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6412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    พื้นที่ฐานปริซึมสี่เหลี่ยมจัตุรัส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060640"/>
            <a:ext cx="48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  พื้นที่ฐานปริซึมรูปสี่เหลี่ยมคางหมู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2616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60400" y="2060640"/>
            <a:ext cx="44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ผลบวกของด้านคู่ขนาน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5280" y="2060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×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26160" y="2203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981000"/>
            <a:ext cx="574560" cy="505080"/>
          </a:xfrm>
          <a:prstGeom prst="cube">
            <a:avLst>
              <a:gd name="adj" fmla="val 25000"/>
            </a:avLst>
          </a:prstGeom>
          <a:solidFill>
            <a:srgbClr val="f4a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20000" y="260280"/>
            <a:ext cx="934920" cy="503280"/>
          </a:xfrm>
          <a:prstGeom prst="cube">
            <a:avLst>
              <a:gd name="adj" fmla="val 25000"/>
            </a:avLst>
          </a:prstGeom>
          <a:solidFill>
            <a:srgbClr val="c4c4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516720" y="2923920"/>
            <a:ext cx="1224000" cy="431640"/>
          </a:xfrm>
          <a:custGeom>
            <a:avLst/>
            <a:gdLst>
              <a:gd name="textAreaLeft" fmla="*/ 269280 w 1224000"/>
              <a:gd name="textAreaRight" fmla="*/ 954720 w 1224000"/>
              <a:gd name="textAreaTop" fmla="*/ 95040 h 431640"/>
              <a:gd name="textAreaBottom" fmla="*/ 3366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93" y="21600"/>
                </a:lnTo>
                <a:lnTo>
                  <a:pt x="5407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4363920"/>
            <a:ext cx="934920" cy="503280"/>
          </a:xfrm>
          <a:prstGeom prst="cube">
            <a:avLst>
              <a:gd name="adj" fmla="val 25000"/>
            </a:avLst>
          </a:prstGeom>
          <a:solidFill>
            <a:srgbClr val="c4c4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4363920"/>
            <a:ext cx="574560" cy="505080"/>
          </a:xfrm>
          <a:prstGeom prst="cube">
            <a:avLst>
              <a:gd name="adj" fmla="val 25000"/>
            </a:avLst>
          </a:prstGeom>
          <a:solidFill>
            <a:srgbClr val="f4a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0800000">
            <a:off x="4284720" y="4508280"/>
            <a:ext cx="1224000" cy="431640"/>
          </a:xfrm>
          <a:custGeom>
            <a:avLst/>
            <a:gdLst>
              <a:gd name="textAreaLeft" fmla="*/ 269280 w 1224000"/>
              <a:gd name="textAreaRight" fmla="*/ 954720 w 1224000"/>
              <a:gd name="textAreaTop" fmla="*/ 95040 h 431640"/>
              <a:gd name="textAreaBottom" fmla="*/ 3366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93" y="21600"/>
                </a:lnTo>
                <a:lnTo>
                  <a:pt x="5407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23640" y="436392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492360" y="4363920"/>
            <a:ext cx="64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435280" y="4363920"/>
            <a:ext cx="865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299736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112536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04000" y="40464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-471600"/>
            <a:ext cx="158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กว้าง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x </a:t>
            </a: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ยาว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320400"/>
            <a:ext cx="151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ด้าน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x </a:t>
            </a: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ด้าน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325584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ความยาวรอบฐาน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ความสู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76360" y="126828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4200" y="909720"/>
            <a:ext cx="18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ัศมีวงกล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2920" y="62064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ความยาวเส้นผ่านศูนย์กล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125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54936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393372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 พื้นที่วงกล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393372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637000"/>
            <a:ext cx="42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ความยาวเส้นรอบวงของว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263700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27664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501336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่าของ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60720" y="501336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ช้ค่าเศษส่วนคื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494172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7080" y="5229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595008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ช้ทศนิยม คือ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268280"/>
            <a:ext cx="1295280" cy="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77080" y="476280"/>
            <a:ext cx="1511280" cy="216072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2421000"/>
            <a:ext cx="151128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771560"/>
            <a:ext cx="1728720" cy="647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0920" y="258840"/>
            <a:ext cx="86364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4920" y="258840"/>
            <a:ext cx="8650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21319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4920" y="3319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263700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263700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26370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00000" y="2708280"/>
                <a:ext cx="432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042920" y="24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26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11280" y="836640"/>
                <a:ext cx="315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971640" y="17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105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3789360"/>
            <a:ext cx="345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 พื้นที่ผิวข้างของกร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3789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292720" y="3716280"/>
                <a:ext cx="246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1187280" y="472428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  พื้นที่ฐานกรวย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580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5805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930920" y="5805360"/>
                <a:ext cx="215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291280" y="580536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580536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ของกรวย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5840" y="5805360"/>
            <a:ext cx="8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7242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54560" y="29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292428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2924280"/>
            <a:ext cx="122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2560" y="29242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ูตร  พื้นที่ผิว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836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พื้นที่ผิวข้างทรงกระบอ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91628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 พื้นที่ฐานทรงกระบอก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่วนเดียว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83664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7440" y="191628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7164000" y="1628280"/>
            <a:ext cx="1081080" cy="100836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443700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68720" y="4437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43700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ของทรงกระบอ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229360"/>
            <a:ext cx="35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ื่อ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รัศมีของฐ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5877000"/>
            <a:ext cx="39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ละ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ความสูงทรงกระ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43640" y="4005360"/>
            <a:ext cx="1224000" cy="2014560"/>
          </a:xfrm>
          <a:prstGeom prst="can">
            <a:avLst>
              <a:gd name="adj" fmla="val 223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5589720"/>
            <a:ext cx="1224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43640" y="4005360"/>
            <a:ext cx="1224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12000" y="4653000"/>
            <a:ext cx="43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8000" y="530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028000" y="414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1280" y="5805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5589720"/>
            <a:ext cx="4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19520" y="15156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ปริมาตรของปริซึ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209680"/>
            <a:ext cx="1371600" cy="83844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236160" y="1370880"/>
            <a:ext cx="45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ูตร ปริมาตรของปริซึม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210492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ปริมาตรปริซึมสี่เหลี่ยมผืนผ้า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35268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124000" y="311292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ปริมาตรปริซึมสี่เหลี่ยมจัตุรัส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5445000"/>
            <a:ext cx="685800" cy="60984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41925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ปริมาตรปริซึมสามเหลี่ยมด้านเท่า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</a:t>
            </a:r>
            <a:r>
              <a:rPr b="0" lang="th-TH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521240" y="3321000"/>
                <a:ext cx="10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521240" y="3321000"/>
                <a:ext cx="10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012000" y="4292640"/>
                <a:ext cx="5252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1143000" y="3352680"/>
            <a:ext cx="685800" cy="685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112716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พื้นที่ฐานปริซึ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112716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dia New"/>
              </a:rPr>
              <a:t>x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วาม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566100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นับ เป็น ลูกบาศก์หน่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940360" y="4941720"/>
            <a:ext cx="1656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210492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ว้าง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x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ยาว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8720" y="311292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ด้าน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rdia New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6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1557360"/>
            <a:ext cx="863640" cy="574560"/>
          </a:xfrm>
          <a:prstGeom prst="parallelogram">
            <a:avLst>
              <a:gd name="adj" fmla="val 37578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68360" y="404280"/>
            <a:ext cx="50328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404640"/>
            <a:ext cx="14436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04640"/>
            <a:ext cx="360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84360" y="476280"/>
            <a:ext cx="287280" cy="108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119700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ฐานพีระมิดฐานสี่เหลี่ยมจัตุรั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ด้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3645000"/>
            <a:ext cx="1225440" cy="287280"/>
          </a:xfrm>
          <a:prstGeom prst="parallelogram">
            <a:avLst>
              <a:gd name="adj" fmla="val 1066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68360" y="2418840"/>
            <a:ext cx="64764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2419200"/>
            <a:ext cx="287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2419200"/>
            <a:ext cx="576360" cy="12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55280" y="2419200"/>
            <a:ext cx="360360" cy="122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79640" y="292428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ฐานพีระมิดฐานสี่เหลี่ยมผืนผ้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ว้า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ยา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250920" y="5734080"/>
            <a:ext cx="1512720" cy="288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4367160"/>
            <a:ext cx="71928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50920" y="436716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969480" y="4367160"/>
            <a:ext cx="730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4508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ฐานพีระมิดฐานสามเหลี่ย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3280" y="4363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3280" y="46512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43640" y="4508640"/>
            <a:ext cx="15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ฐาน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18:14:19Z</dcterms:created>
  <dc:creator>boy</dc:creator>
  <dc:description/>
  <dc:language>en-US</dc:language>
  <cp:lastModifiedBy>IT_N</cp:lastModifiedBy>
  <dcterms:modified xsi:type="dcterms:W3CDTF">2009-03-14T22:10:32Z</dcterms:modified>
  <cp:revision>17</cp:revision>
  <dc:subject/>
  <dc:title>รวมสูตรพื้นที่ผิว และปริมาตร</dc:title>
</cp:coreProperties>
</file>